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23DB-A7FA-466B-9846-D0BB7832E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2B3C-6429-4F33-B035-780997CD4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DF5D-156F-48A8-B2D7-8B09A61A2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4686-1CBF-4881-A99B-D4E43F675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FC71D-665A-421E-A63D-5981B1318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7EF7A-0A65-4B6A-8474-B3E0D91FB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9F7A9-73E3-4FFE-991D-EC36B05B5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6C12F-B2B2-4B84-9A2B-85F248B86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8837E-B0AF-467E-84CA-EB98132F4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15D1E-0A29-4E0C-8CC2-ABA691067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91102-943E-414B-86B2-B6BA5BE39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DA0A-6355-4059-90AC-DC538A3FA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DE506-7958-496A-983A-9F425A6D9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9F280-EF91-4093-936D-E096570D2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A762D-DC1E-4369-BEB0-E6F812AE5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CEDB8-CE3B-436E-9ACB-7B0C99F7D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219FC-03F4-4483-97BA-23A6A60FE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3DAB-DF31-4833-B091-A72B10E67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C957-7C16-4B5A-9BD1-5E7B1DDF9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A518-D38D-43E6-BF23-B5B68A03E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707E-D8EB-4857-93B8-E0F3DD83F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826B-9DC3-409A-A8FE-FF7B1FB1A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1223-EAFD-417C-B543-13FA41E0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25F3-5B03-4B1B-BD3F-EA428763D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65092-5254-42EB-B867-824AC85B97C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E6070-DDE6-4FF8-A9DC-732D78B77A5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3T07:40:12Z</dcterms:created>
  <dc:creator>Spiro13</dc:creator>
  <dc:description/>
  <dc:language>en-US</dc:language>
  <cp:lastModifiedBy>Spiro13</cp:lastModifiedBy>
  <dcterms:modified xsi:type="dcterms:W3CDTF">2009-01-03T09:33:54Z</dcterms:modified>
  <cp:revision>2</cp:revision>
  <dc:subject/>
  <dc:title>Slide 1</dc:title>
</cp:coreProperties>
</file>