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F641-35C1-4757-A41B-DC6BFE24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73C-85D2-4AD1-96BF-E2857EA7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F4E3-05FA-4DC0-8764-A3B55682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D59-B95C-4B31-AFC0-1609A3C2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595F-2C45-4CA8-B659-65AFD477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2F5A-47AF-43D7-9CC0-CF2F7AF6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8DE8-5063-4E43-B4E9-89FBBC76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1303-6315-4CA4-BCB8-7DBF7B77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378D-5640-4535-B16D-BA0E19B7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3B0B-2D74-4531-B45D-B7F0BBB6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72CB-40B4-41FF-AB66-9A9F175D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665-ED20-4A7F-A9D8-58D0B734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5E6D-9C5E-47F4-91A0-EB0980D6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62D9-B890-41F0-8D8E-DBC73916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53D8-B28F-465E-AF5C-F4F629C1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6A50-8CE2-46B8-B4FC-82DB9F9C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046F-AD18-4EC3-A1F7-03BED853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45E-C51A-4E8E-8CA1-0CC96B6D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04B-ABD3-4CDA-B12E-5DE54AA8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9DA-B686-4C0A-841A-7DFA6F9E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474F-97AB-4436-994A-9BCC47AC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A90-268E-42EA-BD7C-82A50CBF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054-1227-47D9-BDED-4ED75044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10F-115D-4A30-BEFF-1B769ABE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7EA2-207D-4B0C-A44F-8C32541E4A3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1C0F-D8D0-4817-A38F-14AE2E16841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07:39:37Z</dcterms:created>
  <dc:creator>Spiro13</dc:creator>
  <dc:description/>
  <dc:language>en-US</dc:language>
  <cp:lastModifiedBy>Spiro13</cp:lastModifiedBy>
  <dcterms:modified xsi:type="dcterms:W3CDTF">2009-01-03T09:33:47Z</dcterms:modified>
  <cp:revision>2</cp:revision>
  <dc:subject/>
  <dc:title>Slide 1</dc:title>
</cp:coreProperties>
</file>