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69C-9049-40AF-91E6-5A72FE90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656-3A17-4DF6-B3A3-11541A9C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3FF-960E-4862-B7BE-66CF02B9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CBC-126D-44BA-92C2-5B15CD5B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10C6-1232-4C37-85B0-48404C1C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05B-2F90-4913-9FDD-8C6770D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BF9F-CA21-4B3E-BA0E-EA476673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37E6-384F-43C1-AF7C-D56C1346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72E-85B2-4106-A5F1-EB60713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CCC2-1714-4F7F-8110-4066ABF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67F5-F5F3-43C2-8359-3773284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017-D563-4D96-99B0-38BBC36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B7EF-7143-43D0-A248-033A276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B8B-99D8-46AB-B031-ECC7E52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5CA8-DCEA-4DD8-82A0-AF127ED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D278-98DF-4B0C-A222-0AD47D94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9140-1108-4975-8BF4-35830B65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2C7-0C19-46ED-802B-697670B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39D-2297-48CC-A74E-96B8CEA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013-F88C-4E76-B2ED-C765F10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DFF-972F-4B6A-8F99-CEF0168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4DB-748B-4B28-9D93-5C8D6F6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477-0A9B-4D47-8374-0ABA616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B2E-11A8-4838-B4F1-4A7B4F8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1A9-06A7-4792-B23F-5FB64FE020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D117-B647-499F-9095-815E30CB89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8:55Z</dcterms:created>
  <dc:creator>Spiro13</dc:creator>
  <dc:description/>
  <dc:language>en-US</dc:language>
  <cp:lastModifiedBy>Spiro13</cp:lastModifiedBy>
  <dcterms:modified xsi:type="dcterms:W3CDTF">2009-01-03T09:33:37Z</dcterms:modified>
  <cp:revision>2</cp:revision>
  <dc:subject/>
  <dc:title>Slide 1</dc:title>
</cp:coreProperties>
</file>